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9A2-845C-49D1-BBED-AC91E30FD49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EE0-D70F-46EA-B771-FD4F96EA338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1FB4-099B-4198-911B-4C39373B9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F581-C229-43F9-8FBF-B688FC482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92C-9AF5-4E41-A36E-894D0E2206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C15-C72E-47F1-A7AD-017FA6904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734-4C2D-480A-A37F-167B3A0FF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491-0E20-46F5-B589-71E59F17A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72F-27C7-4156-8D1B-65506D28E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2EF-213B-4CBE-A280-4E5FD7021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CE3-B86B-484D-81CC-A5EFE23F5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B752-1832-4D52-8145-BDC467B2B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370-8575-4DDB-9F98-76405630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95B-5C65-4F88-A86D-D358439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621-A8C6-4517-8562-D6A1D39E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65D-2949-404A-A25E-6ED6C28B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F736-8FC8-4D57-B7A1-C11C1EDA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C6F0-A907-46F7-9D64-CE3EA43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0B7-2F6D-421C-B0C8-1DF5638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A64A-CF7E-4513-9A79-66E3294D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A82-033E-46C2-ACEF-0F6AD99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2FF-25A1-4369-98C9-82A34B8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4C57-4ECC-4046-A78C-37BCDFE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DDD-FA03-47A0-B7C5-FD39FF8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87B-E0FA-4D36-AF5A-E048756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6258-ACCF-4F04-B20B-624C372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793F-CF4A-4A7D-9278-AA11405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C0D-C02C-42A3-B398-3CB41850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469-4D5A-446C-923E-7664543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A386E-6F00-4016-875D-6267BFB06F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197C0-E239-4ED9-B05C-0400193EC1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CF442-92E5-4B21-BEE7-65758262D7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EA12F-8579-4845-8E95-43A354C6F4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AAC08-02C1-49F2-A254-CD3E7BE25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7CF-2AEA-442A-927E-1187F42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8F9DF-0EC1-45DF-A9D7-AA59D3BC41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AF735-0A36-476C-8D2F-C133380711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31FD3A-2D20-4EBB-A380-FD19158A9C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C51D4-CC76-49CB-B781-ABF7A6C1D1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A3370-74D1-45A5-97B6-06D8ACC2B1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74BA7-F411-4F75-BE85-AB87EE2174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36A5C-FE22-4618-9EBD-E771EF9AA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A37-5114-41AB-ACC7-529D71C6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F2C-261E-4D32-9FDC-980C0E53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4D9-13A8-49A1-AFED-7BFACDD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FF4-0388-4BE1-B689-59650461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064-80A0-4266-A644-25C558A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0C2-5AB0-4C1C-87A4-09792B5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6B1-78BA-4438-856D-DCCC0C6F0D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E6A-4682-45FA-A20E-A8B3D2F8E0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F2A-4CCD-48DD-AA30-BFB37E9D68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d624"/>
                </a:solidFill>
                <a:latin typeface="Verdana"/>
              </a:rPr>
              <a:t>Problématique des réformes budgétaires Jour 3. </a:t>
            </a:r>
            <a:endParaRPr b="1" lang="en-US" sz="4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42600" y="464328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odule 3.2. Préparer et gérer un programme de réforme 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2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86756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4D5-0A05-4319-8652-017422C27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03280" y="15984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2920" y="1324080"/>
            <a:ext cx="900108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Gestion budgétaire et financière du programme de réforme du GF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 cadre des dépenses du programme (5 à 7 ans) avec les modalités de trésorerie prévisionnell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budgets annuels (programmes de travail) avec des objectifs de résultats explicites indiquant les sources de financement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plans de passation des marchés et les plans d’affectation trimestriell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istingue: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s dépenses récurrentes et non récurrent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es coûts directs et indirec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les déclarations mensuelles des dépens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Prépare des rapports annuels de suivi et évalu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Soumet les états contrôlés annuellement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numéro de diapositiv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1DEB-68E0-4BA8-8B27-CE98BCF190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35080" y="1820880"/>
            <a:ext cx="861984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uivi des input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uivi des activité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u nombre personnes formé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e la préparation et finalisation des textes juridiques et réglementair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Suivi de la production des rapport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Indicateurs de résultats du GF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PEFA complétés si nécessair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de qualité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sur les questions non traitées par le PEFA (ex. comptabilité matière=registres d’actifs physiques)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f5494"/>
                </a:solidFill>
                <a:latin typeface="Verdana"/>
              </a:rPr>
              <a:t>Indicateurs OCDE/CAD en matière de passation de marché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7360" y="11066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uivi et évalu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1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nditions de viabilité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D39-7CD8-48C4-84DF-BD18892CA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4000" y="2392200"/>
            <a:ext cx="89280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Intégration dans le budget national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Gestion basée sur les structures des administrations publiques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e Secrétariat de la réforme comprend quelques postes permanents si possible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Maintien en poste du personnel formé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Information régulière toutes les parties prenantes sur les progrès</a:t>
            </a:r>
            <a:endParaRPr b="0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3.1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Stratégie et programme de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Organisation de la gestion de la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25440" y="3357720"/>
            <a:ext cx="8299440" cy="1368360"/>
          </a:xfrm>
          <a:prstGeom prst="rightArrow">
            <a:avLst>
              <a:gd name="adj1" fmla="val 50000"/>
              <a:gd name="adj2" fmla="val 53464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1412640"/>
            <a:ext cx="864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a gestion de la réforme : trois niveaux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9960" y="2349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stratégique: Définition des objectifs, de la démarche, décis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Comité interministériel, Conseil des ministr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Comité directionne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technique nat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Secrétariat de la réforme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Groupes techniques thématiqu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des départements ministérie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1" descr=""/>
          <p:cNvPicPr/>
          <p:nvPr/>
        </p:nvPicPr>
        <p:blipFill>
          <a:blip r:embed="rId1"/>
          <a:stretch/>
        </p:blipFill>
        <p:spPr>
          <a:xfrm>
            <a:off x="2987640" y="115920"/>
            <a:ext cx="5472000" cy="67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ZoneTexte 2"/>
          <p:cNvSpPr/>
          <p:nvPr/>
        </p:nvSpPr>
        <p:spPr>
          <a:xfrm>
            <a:off x="108000" y="191628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xemple d’organisation de la gestion des réform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essages cl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stratégie et un programme de réforme doivent être établ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 dispositif de gestion de réforme efficace doit être mis en pla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Right Arrow 3"/>
          <p:cNvSpPr/>
          <p:nvPr/>
        </p:nvSpPr>
        <p:spPr>
          <a:xfrm>
            <a:off x="111600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ight Arrow 4"/>
          <p:cNvSpPr/>
          <p:nvPr/>
        </p:nvSpPr>
        <p:spPr>
          <a:xfrm rot="10800000">
            <a:off x="622728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0040" y="2499840"/>
            <a:ext cx="82296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Jour 1: Approches pour une réforme de la GF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Jour 2 : Sous-systèmes de la GFP et priorités dans les réformes par sous-systèm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Jour 3: Gérer le changement - Préparer un programme de réforme - Etude de ca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lan du cou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2DE-91B2-4748-89E1-9EA665005D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0C6-1E49-42B0-AE37-9D9BC1D1D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85840" y="1643040"/>
            <a:ext cx="86788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Module 3.2: objectif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Examiner certaines questions essentielles liées à la préparation et la gestion de la réforme de la GF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3.1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Stratégie et programme de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rganisation de la gestion de la réfor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23920" y="2421000"/>
            <a:ext cx="8299440" cy="1368360"/>
          </a:xfrm>
          <a:prstGeom prst="rightArrow">
            <a:avLst>
              <a:gd name="adj1" fmla="val 50000"/>
              <a:gd name="adj2" fmla="val 53464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8610480" y="6429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E8B-3C3F-41F2-8892-8D21BDD0B8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499760"/>
            <a:ext cx="8400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80880" y="1411200"/>
            <a:ext cx="85838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Document “Stratégie de la Réforme”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Document du Conseil des ministres relativement bref: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ert de programme de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amine en détail le programme de réforme de la GFP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un cadre institutionn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dentifie les facteurs de risque importants (cadre légal, passation des marchés, viabilité, etc.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sente un programme pluriannuel des dépens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le déploiement des activités, le calendrier et le phasage de la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s modalités de suivi et évalu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pose des modalités de financ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s responsabilités pour les différentes compos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ert de base pour convenir d’une approche avec les diverses parties pren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214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Le programme de réforme (1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28600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8532720" y="6351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8EF-89C8-475A-8B78-B0D40D8BA0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24000" y="2205000"/>
            <a:ext cx="87674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’objectif global du programme de réforme de la GFP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Établit la liste de toutes les composantes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e phasage des réform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pour chaque composante l’objectif principal, l’objet de la composante, l’institution chef de file et les liens avec les autres composan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pare des plans d’action pour chaque composante qui font état des résultats, des intrants, des activités, des étapes pouvant faire l’objet d’une révision, du calendrier de déploi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stimer les dépenses prévisionnelles, identifier les lignes du budget national les finançant (y.c. financement extérieur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Le programme de réforme (2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8A06-D19A-4854-B3C9-EDC0D35952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71680" y="1428840"/>
            <a:ext cx="8038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8760" y="2786040"/>
            <a:ext cx="87152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201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modalités de suivi et évaluation.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 l’instrument de financement à coordination uniqu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règles de gestion financière et de passation des marché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pécifie les dispositifs institutionnels – inclut un groupe de pilotage de haut niveau, un comité directeur technique, des groupes de travai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41280" indent="-3412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41068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Verdana"/>
              </a:rPr>
              <a:t>Les risques dans la mise en œuvre du programme de réforme de la GF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570-ADD5-498D-A80F-B23D9B657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840" y="642960"/>
            <a:ext cx="80391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14240" y="164304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82520" y="1268280"/>
            <a:ext cx="91440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bsence de volonté politiqu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liés au contenu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ontraintes techniques et de capacité mal prises en comp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liés aux dispositions institutionnelles de gestion de la réform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tructure de gestion inadapté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bsence d’appui durable du partenaire de coopé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dre inefficace de suivi et é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dre légal et réglementaire incomplet ou ineffica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isques dans la mise en œuv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Retards dans le calendrier des activités (ex. retards concernant les passations de marchés, retards de financement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alendrier de déploiement inadéqu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94896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5494"/>
                </a:solidFill>
                <a:latin typeface="Verdana"/>
              </a:rPr>
              <a:t>Atténuation et gestion des risqu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86439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5222-C90A-44DC-94E4-5009D7D38A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52600" y="1395360"/>
            <a:ext cx="80388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41240" y="165276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6680" y="1916280"/>
            <a:ext cx="889308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ngagement soutenu du politique et des partenaires de coopér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raiter le développement des capacité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tructures de gestion adéquates et efficac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dopte un mécanisme de financement coordonné souple et unique avec contrôles et communications de rappor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dopte une approche coordonnée du cadre légal et réglementair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ystème de passations de marchés efficaces et efficiente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dopter un calendrier adéqua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ttention particulière portée sur la gestion des liens entre les différentes composantes, du déploiement, du phasage et du calendrie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oordonne le programme de réforme de la GFP avec d’autres réformes du secteur publi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cp:lastPrinted>2013-01-06T15:18:40Z</cp:lastPrinted>
  <dcterms:modified xsi:type="dcterms:W3CDTF">2016-06-09T07:36:53Z</dcterms:modified>
  <cp:revision>116</cp:revision>
  <dc:subject/>
  <dc:title>Slide 1</dc:title>
</cp:coreProperties>
</file>